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AE4D-4D88-49F3-B30B-141B9D3EBAB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B536-364E-431B-B52A-A9AAE76C0D3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BD05-BA99-4782-9520-F05E3FAF1FA0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DD5E-092C-43F2-9B33-E834F527ED2C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9B71-DCB8-4068-8224-792345F22DF7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A345-FD0B-4967-9B11-3719239F600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9E34-2982-401C-8922-370B8768DC6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072E-CC97-4397-A20A-2CC34ED5231E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2830-FBD4-46AB-99BC-78D67F55AE14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1CF-822C-4B27-9016-5B716BD1273B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597-1BF5-46F4-A620-73AC0CA6358D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E34D-BB12-4B52-9328-A7DB76259F16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04E9-67E3-4CEB-A2CC-C6896A3D5DA1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2B7C-E1EF-40E2-AEBB-D53B52698E78}" type="slidenum"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E93-7BC2-4C49-B69E-F009B865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BEB-BFA9-4EC3-91B6-5CAA355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999-7CAD-4697-9C13-25BC0C40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F42-BE39-40DD-80F3-748FED501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6613-72D5-4F28-98CB-ED0E38C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16C1-584E-4127-8551-D068994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6CC-8475-4765-871A-764241EF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753-9985-4741-8A1A-F0DF7A33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DCA-B9B6-4E9F-9C7C-556CD33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F62E-57D1-447F-8BEA-AD54FE08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B82-1485-44A6-92D0-B539840B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62F-AF28-45F1-B3A7-6334FBE9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FEC5-8884-452B-9116-058A66C2D0DB}" type="slidenum">
              <a:rPr b="0" lang="fr-CA" sz="1200" spc="-1" strike="noStrike">
                <a:solidFill>
                  <a:srgbClr val="898989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360" y="2488680"/>
            <a:ext cx="475272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學務處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8360" y="4149360"/>
            <a:ext cx="2448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bf2"/>
                </a:solidFill>
                <a:latin typeface="標楷體"/>
                <a:ea typeface="標楷體"/>
              </a:rPr>
              <a:t>陳季芬 主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務處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工作計畫已寄至各位同仁信箱中（新進教師有紙本），請各位參閱。開學日幹部訓練請各位行政人員依指定地點就位進行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本學期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上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分配合國家防災日，將進行防災演練，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1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（五）、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（五）早自習兩次預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訓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教育局規定，本學期國中部進行每月品德教育影片觀賞，請國一及國二導師在班會時安排學生一起觀賞討論。教育影片需列入財產保管，以傳承給下一屆導師（國三老師若有需要，圖書館有影片資料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高中部週記進行改版印刷，預定開學第二週才會完成，屆時再通知各班請各班統一購買，本學期期末亦會進行週記抽查，請老師參閱學務處工作計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/3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至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6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為每學期「友善校園週」當週學校將辦理相關宣導活動，請各位老師於課程中融入宣導，「友善校園週反黑、反毒、反霸凌」相關議題，以建立個溫馨校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為加強防制學生藥物濫用，本校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/3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至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/6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辦理「特定人員」清 查，請各班導師協助清查班級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『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事實足認為有藥物濫用嫌疑之學生。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』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，並請各班導師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 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7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將調查表繳回學務處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據校安事件通報規定凡是有下列情形請老師務必向學務處反映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校園霸凌事件  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青少年保護事件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.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藥物濫用事件，請老師務必通知學務處處理，以免違反規定受行政處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下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時於國中部二樓視聽教室召開第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次導師會報，請各班導師準時與會，如有提案請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8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前送交學務處龔振溢教官會辦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生輔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依行政院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「國家防災日」推動「全國學生地震演習」，以「抗震保安， 感動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2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」（一分鐘內所有參與者完成地震避難掩護動作；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00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萬以上學生一起動員參與；蹲下、掩護、穩住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個要領）為主軸，本校分別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、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早自習實施預演，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上午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9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2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日配合實施全國性「地震防核演習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鑑於上學年度發現學期結束後，有班級廚餘桶未處理導致長蛆情形發生，經過會議決定於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度起，各班與各處室不使用廚餘桶處理廚餘，請於用餐後將廚餘倒入餐桶中，果皮則另外裝在塑膠袋中，請負責打掃班級將果皮倒入落葉回收桶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衛生組於開學前會發給各班班級標籤貼紙，請各班導師協助將標籤貼紙貼於各掃具上，以防各班同學搞混或任意破壞掃具造成不必要的浪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衛生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從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1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學年度起，資源回收室只於早上打掃、午休、下午打掃時間開放，每周回收類別仍維持上學年度的規定辦理（周一周四：塑膠類；）開放時間均會安排衛生公差於門口登記監督，如有分類不完全、亂丟亂倒等違規情形則予以整潔分數扣分，煩請各位老師配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有關積水容器造成登革熱孳生，請各位老師有看到或發現，隨時告知學務處以杜絕病蚊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成員介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560" y="2174760"/>
            <a:ext cx="78598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學務主任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陳季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訓育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鄭雅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生輔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龔振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衛生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劉康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體育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蕭朝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活動組長</a:t>
            </a:r>
            <a:r>
              <a:rPr b="0" lang="en-US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-</a:t>
            </a:r>
            <a:r>
              <a:rPr b="0" lang="zh-TW" sz="3600" spc="-1" strike="noStrike">
                <a:solidFill>
                  <a:srgbClr val="281729"/>
                </a:solidFill>
                <a:latin typeface="標楷體"/>
                <a:ea typeface="標楷體"/>
              </a:rPr>
              <a:t>曾國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體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體育組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辦理新進教職生體能增強活動活動，相關辦法公告在學校網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報告完畢</a:t>
            </a:r>
            <a:br>
              <a:rPr sz="4400"/>
            </a:b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　　　　敬請指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學務主任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訓育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生輔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衛生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2817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281729"/>
                </a:solidFill>
                <a:latin typeface="標楷體"/>
                <a:ea typeface="標楷體"/>
              </a:rPr>
              <a:t>體育組報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720" y="3929040"/>
            <a:ext cx="475128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學務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為保持全校上課安寧，請任課老師準時進入教室上課，若有需要學生協助取用教具也請於下課時完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上課時間非萬不得已請勿讓學生進出教室取用茶水或上廁所，如果一個班</a:t>
            </a:r>
            <a:r>
              <a:rPr b="0" lang="en-US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5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人進出教室，全校將近百人上課時在教室外，非常凌亂，請老師們配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任課老師每節課確實點名，以掌握學生出席人數，避免學生發生意外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各辦公室確實實施資源回收，並請導師們告知學生實施垃圾減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騎乘機車的老師們戴上安全帽以維護自身安全，並做為學生的榜樣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請導師及代理導師多加注意學生午餐後的餐桶回收，以往偶爾都發現高中部餐桶於回收時間外仍然放置於地下室，不但造成出入不便，餐桶也會因此產生細菌危害衛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本學期資源回收室由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304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清波老師帶領整理，感謝清波主動整理學校內最複雜困難的地方，也拜託各位老師按照每日回收項目指導學生，共同為學校減量垃圾及資源回收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感謝亮昇老師於最後關頭協助學擔任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1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，感謝文財老師願意接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。學校學制如此，如果大家都不想擔任導師甚至不擔任</a:t>
            </a:r>
            <a:r>
              <a:rPr b="0" lang="en-US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405</a:t>
            </a:r>
            <a:r>
              <a:rPr b="0" lang="zh-TW" sz="3200" spc="-1" strike="noStrike">
                <a:solidFill>
                  <a:srgbClr val="fffbf2"/>
                </a:solidFill>
                <a:latin typeface="Times New Roman"/>
                <a:ea typeface="標楷體"/>
              </a:rPr>
              <a:t>班導師，學生知道的話情何以堪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感謝教師會理事長協助我推動人員擔任組長級導師，希望大家都能為學校力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要學校寧靜乾淨都有賴各位老師們，請隨時教導學生，學務處絕對竭盡所能，努力以赴，老師們如果發現任何學務處有不周延的地方請隨時來電，我們會立即處理並請委婉告知，請不要打擊行政團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bf2"/>
                </a:solidFill>
                <a:latin typeface="標楷體"/>
                <a:ea typeface="標楷體"/>
              </a:rPr>
              <a:t>主任報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413000"/>
            <a:ext cx="8229600" cy="49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b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學務處目前缺</a:t>
            </a:r>
            <a:r>
              <a:rPr b="0" lang="en-US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fffbf2"/>
                </a:solidFill>
                <a:latin typeface="標楷體"/>
                <a:ea typeface="標楷體"/>
              </a:rPr>
              <a:t>名幹事，生輔副組長也尚無著落，暑假中教務處努力找人，我也隨傳隨到擔任委員，奈何有人考上之後，報到之後隨即聯絡不上！有的無法勝任老師！因此請各位老師多諒解行政的難處，多一點包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8:49:07Z</dcterms:created>
  <dc:creator>Jack Teng</dc:creator>
  <dc:description/>
  <dc:language>en-US</dc:language>
  <cp:lastModifiedBy>aa8832</cp:lastModifiedBy>
  <dcterms:modified xsi:type="dcterms:W3CDTF">2012-09-03T04:40:58Z</dcterms:modified>
  <cp:revision>24</cp:revision>
  <dc:subject/>
  <dc:title>改變生命的教學- 教師七大定律</dc:title>
</cp:coreProperties>
</file>